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C620-AFA4-4615-96C5-402E45CF3B85}" type="slidenum">
              <a:rPr b="0" lang="ru-RU"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7B96-D420-4643-8857-6F409A1994D9}" type="slidenum">
              <a:rPr b="0" lang="ru-RU"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24A03-C76B-42DF-A01D-4FBCA8AEA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949B0-6A86-498C-9635-3127AEA4F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D5FBF-86BB-4008-B6B8-0E122B3FE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8EE69-677B-4231-AF84-965213E7E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EF4F7-327D-4BC7-A64F-DF82E7F98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6A483-017D-4BAC-AF54-9E7CFA9F1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697EC-E1C3-4697-8259-8C9478327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9DAF2-F606-467B-97D5-A02BF5AF9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BBC95-CE85-469E-B0FC-940B8E611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C0B03-35D8-411D-B55C-F85B1A8FA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91AC4-33BB-4D3C-9083-2051B0D58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F027F-1E69-4DD3-A4F0-2F4697E23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47607-CFA5-4A83-AD1C-65903B0C2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9B4E3-502F-44E4-9DE4-FD65549E0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CB905-5CF4-43E5-8101-E17F911CE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4F93B-9A98-46D7-BF97-35B32BB8E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175F0-01BB-44BC-B5BA-5306E24EE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5D789-4762-457D-B6D8-F87BE4023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3F97B-92CF-4290-9E1F-B92D8B7E2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DEAA6-899E-417A-8540-FAB900435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2A001-F678-4D60-88B1-9B8682A72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4C50E-EBEF-4BEB-84ED-AD850B51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EC9C8-C501-42C3-8FDC-57DF2C020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8897-CE8D-4A6A-AF6D-5670E8AD9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6" name="Arc 118"/>
              <p:cNvSpPr/>
              <p:nvPr/>
            </p:nvSpPr>
            <p:spPr>
              <a:xfrm flipH="1">
                <a:off x="6954480" y="759240"/>
                <a:ext cx="635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1" name="Arc 123"/>
              <p:cNvSpPr/>
              <p:nvPr/>
            </p:nvSpPr>
            <p:spPr>
              <a:xfrm>
                <a:off x="785772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2" name="Freeform 124"/>
              <p:cNvSpPr/>
              <p:nvPr/>
            </p:nvSpPr>
            <p:spPr>
              <a:xfrm>
                <a:off x="7998840" y="1351800"/>
                <a:ext cx="24696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5" name="Arc 127"/>
              <p:cNvSpPr/>
              <p:nvPr/>
            </p:nvSpPr>
            <p:spPr>
              <a:xfrm flipH="1">
                <a:off x="6710400" y="159480"/>
                <a:ext cx="94716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Arc 128"/>
              <p:cNvSpPr/>
              <p:nvPr/>
            </p:nvSpPr>
            <p:spPr>
              <a:xfrm>
                <a:off x="7722360" y="657000"/>
                <a:ext cx="390240" cy="11818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1" name="Freeform 133"/>
              <p:cNvSpPr/>
              <p:nvPr/>
            </p:nvSpPr>
            <p:spPr>
              <a:xfrm>
                <a:off x="8294400" y="753840"/>
                <a:ext cx="777600" cy="5468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134"/>
              <p:cNvSpPr/>
              <p:nvPr/>
            </p:nvSpPr>
            <p:spPr>
              <a:xfrm>
                <a:off x="8323200" y="172440"/>
                <a:ext cx="340200" cy="7340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917A-49BF-4FF9-B41C-449C8E8FF91C}" type="slidenum">
              <a:rPr b="0" lang="ru-RU"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480"/>
            <a:chOff x="2010960" y="245520"/>
            <a:chExt cx="6896160" cy="545148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480"/>
              <a:chOff x="2010960" y="245520"/>
              <a:chExt cx="6896160" cy="5451480"/>
            </a:xfrm>
          </p:grpSpPr>
          <p:grpSp>
            <p:nvGrpSpPr>
              <p:cNvPr id="181" name="Group 7"/>
              <p:cNvGrpSpPr/>
              <p:nvPr/>
            </p:nvGrpSpPr>
            <p:grpSpPr>
              <a:xfrm>
                <a:off x="2010960" y="245520"/>
                <a:ext cx="6891120" cy="5451480"/>
                <a:chOff x="2010960" y="245520"/>
                <a:chExt cx="6891120" cy="5451480"/>
              </a:xfrm>
            </p:grpSpPr>
            <p:grpSp>
              <p:nvGrpSpPr>
                <p:cNvPr id="182" name="Group 8"/>
                <p:cNvGrpSpPr/>
                <p:nvPr/>
              </p:nvGrpSpPr>
              <p:grpSpPr>
                <a:xfrm>
                  <a:off x="3735720" y="1267200"/>
                  <a:ext cx="3599280" cy="2651040"/>
                  <a:chOff x="3735720" y="1267200"/>
                  <a:chExt cx="3599280" cy="2651040"/>
                </a:xfrm>
              </p:grpSpPr>
              <p:sp>
                <p:nvSpPr>
                  <p:cNvPr id="183" name="Oval 9"/>
                  <p:cNvSpPr/>
                  <p:nvPr/>
                </p:nvSpPr>
                <p:spPr>
                  <a:xfrm>
                    <a:off x="3735720" y="1267200"/>
                    <a:ext cx="3599280" cy="26510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480"/>
                  <a:chOff x="2010960" y="245520"/>
                  <a:chExt cx="6891120" cy="5451480"/>
                </a:xfrm>
              </p:grpSpPr>
              <p:grpSp>
                <p:nvGrpSpPr>
                  <p:cNvPr id="186" name="Group 12"/>
                  <p:cNvGrpSpPr/>
                  <p:nvPr/>
                </p:nvGrpSpPr>
                <p:grpSpPr>
                  <a:xfrm>
                    <a:off x="5761080" y="2323440"/>
                    <a:ext cx="2558880" cy="2740320"/>
                    <a:chOff x="5761080" y="2323440"/>
                    <a:chExt cx="2558880" cy="2740320"/>
                  </a:xfrm>
                </p:grpSpPr>
                <p:sp>
                  <p:nvSpPr>
                    <p:cNvPr id="187" name="Freeform 13"/>
                    <p:cNvSpPr/>
                    <p:nvPr/>
                  </p:nvSpPr>
                  <p:spPr>
                    <a:xfrm rot="2711400">
                      <a:off x="5583960" y="3020400"/>
                      <a:ext cx="212580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480" y="414468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9560"/>
                    <a:ext cx="3039840" cy="2528280"/>
                    <a:chOff x="5787720" y="2149560"/>
                    <a:chExt cx="3039840" cy="2528280"/>
                  </a:xfrm>
                </p:grpSpPr>
                <p:sp>
                  <p:nvSpPr>
                    <p:cNvPr id="190" name="Freeform 16"/>
                    <p:cNvSpPr/>
                    <p:nvPr/>
                  </p:nvSpPr>
                  <p:spPr>
                    <a:xfrm rot="2103600">
                      <a:off x="5707080" y="2752920"/>
                      <a:ext cx="2235600" cy="426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360" y="3721680"/>
                      <a:ext cx="120096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5120" y="2065320"/>
                    <a:ext cx="3097440" cy="1992600"/>
                    <a:chOff x="5775120" y="2065320"/>
                    <a:chExt cx="3097440" cy="1992600"/>
                  </a:xfrm>
                </p:grpSpPr>
                <p:sp>
                  <p:nvSpPr>
                    <p:cNvPr id="193" name="Freeform 19"/>
                    <p:cNvSpPr/>
                    <p:nvPr/>
                  </p:nvSpPr>
                  <p:spPr>
                    <a:xfrm rot="1582800">
                      <a:off x="574668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2720"/>
                      <a:ext cx="1110600" cy="649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6080" y="1879920"/>
                    <a:ext cx="2938680" cy="1001880"/>
                    <a:chOff x="5806080" y="1879920"/>
                    <a:chExt cx="2938680" cy="1001880"/>
                  </a:xfrm>
                </p:grpSpPr>
                <p:sp>
                  <p:nvSpPr>
                    <p:cNvPr id="199" name="Freeform 25"/>
                    <p:cNvSpPr/>
                    <p:nvPr/>
                  </p:nvSpPr>
                  <p:spPr>
                    <a:xfrm rot="463200">
                      <a:off x="5823000" y="2005920"/>
                      <a:ext cx="190368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12920"/>
                      <a:ext cx="102312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4960"/>
                    <a:chOff x="5851440" y="1815480"/>
                    <a:chExt cx="2658600" cy="444960"/>
                  </a:xfrm>
                </p:grpSpPr>
                <p:sp>
                  <p:nvSpPr>
                    <p:cNvPr id="202" name="Freeform 28"/>
                    <p:cNvSpPr/>
                    <p:nvPr/>
                  </p:nvSpPr>
                  <p:spPr>
                    <a:xfrm rot="21515400">
                      <a:off x="5854320" y="1852560"/>
                      <a:ext cx="1730880" cy="268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480" y="1827000"/>
                      <a:ext cx="929520" cy="421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5360"/>
                    <a:ext cx="2363760" cy="785520"/>
                    <a:chOff x="5788440" y="1305360"/>
                    <a:chExt cx="2363760" cy="785520"/>
                  </a:xfrm>
                </p:grpSpPr>
                <p:sp>
                  <p:nvSpPr>
                    <p:cNvPr id="205" name="Freeform 31"/>
                    <p:cNvSpPr/>
                    <p:nvPr/>
                  </p:nvSpPr>
                  <p:spPr>
                    <a:xfrm rot="20797200">
                      <a:off x="5798160" y="1653840"/>
                      <a:ext cx="1520280" cy="264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93920"/>
                      <a:ext cx="816480" cy="415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6360" y="2473920"/>
                    <a:ext cx="2556720" cy="2741760"/>
                    <a:chOff x="2646360" y="2473920"/>
                    <a:chExt cx="2556720" cy="2741760"/>
                  </a:xfrm>
                </p:grpSpPr>
                <p:sp>
                  <p:nvSpPr>
                    <p:cNvPr id="208" name="Freeform 34"/>
                    <p:cNvSpPr/>
                    <p:nvPr/>
                  </p:nvSpPr>
                  <p:spPr>
                    <a:xfrm flipH="1" rot="18888600">
                      <a:off x="3253680" y="3170880"/>
                      <a:ext cx="212580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360" y="4295520"/>
                      <a:ext cx="11415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5120" y="2366640"/>
                    <a:ext cx="3039840" cy="2530440"/>
                    <a:chOff x="2085120" y="2366640"/>
                    <a:chExt cx="3039840" cy="2530440"/>
                  </a:xfrm>
                </p:grpSpPr>
                <p:sp>
                  <p:nvSpPr>
                    <p:cNvPr id="211" name="Freeform 37"/>
                    <p:cNvSpPr/>
                    <p:nvPr/>
                  </p:nvSpPr>
                  <p:spPr>
                    <a:xfrm flipH="1" rot="19496400">
                      <a:off x="2968560" y="2969640"/>
                      <a:ext cx="2235600" cy="42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8640" y="3940920"/>
                      <a:ext cx="1200960" cy="6721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1160"/>
                    <a:chOff x="2040840" y="2283480"/>
                    <a:chExt cx="3096360" cy="1991160"/>
                  </a:xfrm>
                </p:grpSpPr>
                <p:sp>
                  <p:nvSpPr>
                    <p:cNvPr id="214"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1040" y="3463200"/>
                      <a:ext cx="1149120" cy="586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9880"/>
                    <a:ext cx="3134160" cy="1608120"/>
                    <a:chOff x="2010960" y="2189880"/>
                    <a:chExt cx="3134160" cy="1608120"/>
                  </a:xfrm>
                </p:grpSpPr>
                <p:sp>
                  <p:nvSpPr>
                    <p:cNvPr id="217" name="Freeform 43"/>
                    <p:cNvSpPr/>
                    <p:nvPr/>
                  </p:nvSpPr>
                  <p:spPr>
                    <a:xfrm flipH="1" rot="20520000">
                      <a:off x="3063600" y="249912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4040" y="2992320"/>
                      <a:ext cx="1110600" cy="649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8080"/>
                    <a:ext cx="2939040" cy="1000800"/>
                    <a:chOff x="2167560" y="2098080"/>
                    <a:chExt cx="2939040" cy="1000800"/>
                  </a:xfrm>
                </p:grpSpPr>
                <p:sp>
                  <p:nvSpPr>
                    <p:cNvPr id="220" name="Freeform 46"/>
                    <p:cNvSpPr/>
                    <p:nvPr/>
                  </p:nvSpPr>
                  <p:spPr>
                    <a:xfrm flipH="1" rot="21136800">
                      <a:off x="3185640" y="2224080"/>
                      <a:ext cx="1903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2840" y="242964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32560"/>
                    <a:ext cx="2658600" cy="447120"/>
                    <a:chOff x="2403720" y="2032560"/>
                    <a:chExt cx="2658600" cy="447120"/>
                  </a:xfrm>
                </p:grpSpPr>
                <p:sp>
                  <p:nvSpPr>
                    <p:cNvPr id="223"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43720"/>
                      <a:ext cx="929520" cy="42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1200" y="1522440"/>
                    <a:ext cx="2363400" cy="787320"/>
                    <a:chOff x="2761200" y="1522440"/>
                    <a:chExt cx="2363400" cy="787320"/>
                  </a:xfrm>
                </p:grpSpPr>
                <p:sp>
                  <p:nvSpPr>
                    <p:cNvPr id="226"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11000"/>
                      <a:ext cx="816120" cy="417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200" y="1238040"/>
                    <a:ext cx="2323800" cy="1082520"/>
                    <a:chOff x="2887200" y="1238040"/>
                    <a:chExt cx="2323800" cy="1082520"/>
                  </a:xfrm>
                </p:grpSpPr>
                <p:sp>
                  <p:nvSpPr>
                    <p:cNvPr id="229" name="Freeform 55"/>
                    <p:cNvSpPr/>
                    <p:nvPr/>
                  </p:nvSpPr>
                  <p:spPr>
                    <a:xfrm flipH="1" rot="1278000">
                      <a:off x="3694320" y="178812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4360" y="137196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520" y="832680"/>
                    <a:ext cx="2169720" cy="1506600"/>
                    <a:chOff x="3161520" y="832680"/>
                    <a:chExt cx="2169720" cy="1506600"/>
                  </a:xfrm>
                </p:grpSpPr>
                <p:sp>
                  <p:nvSpPr>
                    <p:cNvPr id="232"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24560"/>
                      <a:ext cx="816120" cy="415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280" y="436320"/>
                    <a:ext cx="1987560" cy="1831320"/>
                    <a:chOff x="3437280" y="436320"/>
                    <a:chExt cx="1987560" cy="1831320"/>
                  </a:xfrm>
                </p:grpSpPr>
                <p:sp>
                  <p:nvSpPr>
                    <p:cNvPr id="235"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4280" y="666360"/>
                      <a:ext cx="828360" cy="417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27320" y="334080"/>
                    <a:ext cx="1460880" cy="1888200"/>
                    <a:chOff x="4027320" y="334080"/>
                    <a:chExt cx="1460880" cy="1888200"/>
                  </a:xfrm>
                </p:grpSpPr>
                <p:sp>
                  <p:nvSpPr>
                    <p:cNvPr id="238" name="Freeform 64"/>
                    <p:cNvSpPr/>
                    <p:nvPr/>
                  </p:nvSpPr>
                  <p:spPr>
                    <a:xfrm flipH="1" rot="3474000">
                      <a:off x="4336200" y="1444320"/>
                      <a:ext cx="13575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3080" y="544680"/>
                      <a:ext cx="72828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8160" y="245520"/>
                    <a:ext cx="1123560" cy="1946880"/>
                    <a:chOff x="4448160" y="245520"/>
                    <a:chExt cx="1123560" cy="1946880"/>
                  </a:xfrm>
                </p:grpSpPr>
                <p:sp>
                  <p:nvSpPr>
                    <p:cNvPr id="241" name="Freeform 67"/>
                    <p:cNvSpPr/>
                    <p:nvPr/>
                  </p:nvSpPr>
                  <p:spPr>
                    <a:xfrm flipH="1" rot="4126800">
                      <a:off x="4557240" y="1402200"/>
                      <a:ext cx="13078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52560"/>
                    <a:ext cx="2318760" cy="1112040"/>
                    <a:chOff x="5661720" y="952560"/>
                    <a:chExt cx="2318760" cy="1112040"/>
                  </a:xfrm>
                </p:grpSpPr>
                <p:sp>
                  <p:nvSpPr>
                    <p:cNvPr id="244"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90800"/>
                      <a:ext cx="817560" cy="41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26400"/>
                    <a:ext cx="2200680" cy="1451160"/>
                    <a:chOff x="5529600" y="626400"/>
                    <a:chExt cx="2200680" cy="1451160"/>
                  </a:xfrm>
                </p:grpSpPr>
                <p:sp>
                  <p:nvSpPr>
                    <p:cNvPr id="247" name="Freeform 73"/>
                    <p:cNvSpPr/>
                    <p:nvPr/>
                  </p:nvSpPr>
                  <p:spPr>
                    <a:xfrm rot="19678800">
                      <a:off x="5483880" y="142956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10720"/>
                      <a:ext cx="816120" cy="417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7480" y="1466640"/>
                    <a:ext cx="126504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55720" y="270360"/>
                    <a:ext cx="1195560" cy="1900800"/>
                    <a:chOff x="5355720" y="270360"/>
                    <a:chExt cx="1195560" cy="1900800"/>
                  </a:xfrm>
                </p:grpSpPr>
                <p:sp>
                  <p:nvSpPr>
                    <p:cNvPr id="252"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7440" y="486000"/>
                      <a:ext cx="70236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48880" y="389160"/>
                    <a:ext cx="1890720" cy="1795320"/>
                    <a:chOff x="5348880" y="389160"/>
                    <a:chExt cx="1890720" cy="1795320"/>
                  </a:xfrm>
                </p:grpSpPr>
                <p:sp>
                  <p:nvSpPr>
                    <p:cNvPr id="255" name="Freeform 81"/>
                    <p:cNvSpPr/>
                    <p:nvPr/>
                  </p:nvSpPr>
                  <p:spPr>
                    <a:xfrm rot="18822600">
                      <a:off x="5248800" y="138852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3680" y="585000"/>
                      <a:ext cx="76536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400" y="292680"/>
                    <a:ext cx="424800" cy="1795320"/>
                    <a:chOff x="5459400" y="292680"/>
                    <a:chExt cx="424800" cy="1795320"/>
                  </a:xfrm>
                </p:grpSpPr>
                <p:sp>
                  <p:nvSpPr>
                    <p:cNvPr id="258" name="Freeform 84"/>
                    <p:cNvSpPr/>
                    <p:nvPr/>
                  </p:nvSpPr>
                  <p:spPr>
                    <a:xfrm rot="16696200">
                      <a:off x="500832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85"/>
                    <p:cNvSpPr/>
                    <p:nvPr/>
                  </p:nvSpPr>
                  <p:spPr>
                    <a:xfrm rot="16696200">
                      <a:off x="5441760" y="534240"/>
                      <a:ext cx="631080" cy="164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30800"/>
                    <a:ext cx="2193480" cy="3001680"/>
                    <a:chOff x="3063240" y="2530800"/>
                    <a:chExt cx="2193480" cy="3001680"/>
                  </a:xfrm>
                </p:grpSpPr>
                <p:sp>
                  <p:nvSpPr>
                    <p:cNvPr id="261" name="Freeform 87"/>
                    <p:cNvSpPr/>
                    <p:nvPr/>
                  </p:nvSpPr>
                  <p:spPr>
                    <a:xfrm flipH="1" rot="18336000">
                      <a:off x="3418920" y="3314520"/>
                      <a:ext cx="212544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9108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1520" y="2650680"/>
                    <a:ext cx="1482840" cy="2998800"/>
                    <a:chOff x="3791520" y="2650680"/>
                    <a:chExt cx="1482840" cy="2998800"/>
                  </a:xfrm>
                </p:grpSpPr>
                <p:sp>
                  <p:nvSpPr>
                    <p:cNvPr id="264" name="Freeform 90"/>
                    <p:cNvSpPr/>
                    <p:nvPr/>
                  </p:nvSpPr>
                  <p:spPr>
                    <a:xfrm flipH="1" rot="17543400">
                      <a:off x="3738960" y="3440880"/>
                      <a:ext cx="196668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3640" y="4744440"/>
                      <a:ext cx="10555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7200" y="2701800"/>
                    <a:ext cx="876240" cy="2927520"/>
                    <a:chOff x="4507200" y="2701800"/>
                    <a:chExt cx="876240" cy="2927520"/>
                  </a:xfrm>
                </p:grpSpPr>
                <p:sp>
                  <p:nvSpPr>
                    <p:cNvPr id="267" name="Freeform 93"/>
                    <p:cNvSpPr/>
                    <p:nvPr/>
                  </p:nvSpPr>
                  <p:spPr>
                    <a:xfrm flipH="1" rot="16870800">
                      <a:off x="4087080" y="348768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5360" y="4807800"/>
                      <a:ext cx="1012320" cy="543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7920" y="2483640"/>
                    <a:ext cx="2280240" cy="2952000"/>
                    <a:chOff x="5677920" y="2483640"/>
                    <a:chExt cx="2280240" cy="2952000"/>
                  </a:xfrm>
                </p:grpSpPr>
                <p:sp>
                  <p:nvSpPr>
                    <p:cNvPr id="270" name="Freeform 96"/>
                    <p:cNvSpPr/>
                    <p:nvPr/>
                  </p:nvSpPr>
                  <p:spPr>
                    <a:xfrm rot="3144000">
                      <a:off x="5415120" y="3250800"/>
                      <a:ext cx="212580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1480" y="4497840"/>
                      <a:ext cx="113940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8400" y="2594520"/>
                    <a:ext cx="1756080" cy="3030120"/>
                    <a:chOff x="5648400" y="2594520"/>
                    <a:chExt cx="1756080" cy="3030120"/>
                  </a:xfrm>
                </p:grpSpPr>
                <p:sp>
                  <p:nvSpPr>
                    <p:cNvPr id="273" name="Freeform 99"/>
                    <p:cNvSpPr/>
                    <p:nvPr/>
                  </p:nvSpPr>
                  <p:spPr>
                    <a:xfrm rot="3745200">
                      <a:off x="5265720" y="3396600"/>
                      <a:ext cx="203328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1840" y="4719600"/>
                      <a:ext cx="1089720" cy="576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11880"/>
                    <a:ext cx="1225800" cy="2985120"/>
                    <a:chOff x="5576040" y="2711880"/>
                    <a:chExt cx="1225800" cy="2985120"/>
                  </a:xfrm>
                </p:grpSpPr>
                <p:sp>
                  <p:nvSpPr>
                    <p:cNvPr id="276" name="Freeform 102"/>
                    <p:cNvSpPr/>
                    <p:nvPr/>
                  </p:nvSpPr>
                  <p:spPr>
                    <a:xfrm rot="4286400">
                      <a:off x="5046840" y="3543480"/>
                      <a:ext cx="1972800" cy="302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8440" y="4881600"/>
                      <a:ext cx="105912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9680"/>
                    <a:ext cx="696240" cy="2779200"/>
                    <a:chOff x="5521320" y="2839680"/>
                    <a:chExt cx="696240" cy="2779200"/>
                  </a:xfrm>
                </p:grpSpPr>
                <p:sp>
                  <p:nvSpPr>
                    <p:cNvPr id="279" name="Freeform 105"/>
                    <p:cNvSpPr/>
                    <p:nvPr/>
                  </p:nvSpPr>
                  <p:spPr>
                    <a:xfrm rot="4898400">
                      <a:off x="4896000" y="3607200"/>
                      <a:ext cx="18136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840" y="4865040"/>
                      <a:ext cx="97416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1160" y="2887560"/>
                    <a:ext cx="664560" cy="2717640"/>
                    <a:chOff x="4961160" y="2887560"/>
                    <a:chExt cx="664560" cy="2717640"/>
                  </a:xfrm>
                </p:grpSpPr>
                <p:sp>
                  <p:nvSpPr>
                    <p:cNvPr id="282" name="Freeform 108"/>
                    <p:cNvSpPr/>
                    <p:nvPr/>
                  </p:nvSpPr>
                  <p:spPr>
                    <a:xfrm rot="5755200">
                      <a:off x="453312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5280" y="4931640"/>
                      <a:ext cx="95076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82560"/>
                <a:ext cx="6732720" cy="4521240"/>
                <a:chOff x="2174400" y="682560"/>
                <a:chExt cx="6732720" cy="4521240"/>
              </a:xfrm>
            </p:grpSpPr>
            <p:grpSp>
              <p:nvGrpSpPr>
                <p:cNvPr id="285" name="Group 111"/>
                <p:cNvGrpSpPr/>
                <p:nvPr/>
              </p:nvGrpSpPr>
              <p:grpSpPr>
                <a:xfrm>
                  <a:off x="2174400" y="682560"/>
                  <a:ext cx="6732720" cy="4521240"/>
                  <a:chOff x="2174400" y="682560"/>
                  <a:chExt cx="6732720" cy="4521240"/>
                </a:xfrm>
              </p:grpSpPr>
              <p:sp>
                <p:nvSpPr>
                  <p:cNvPr id="286" name="Arc 112"/>
                  <p:cNvSpPr/>
                  <p:nvPr/>
                </p:nvSpPr>
                <p:spPr>
                  <a:xfrm flipV="1">
                    <a:off x="5740560" y="857880"/>
                    <a:ext cx="3166560" cy="25239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70520"/>
                    <a:ext cx="248688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52840"/>
                    <a:ext cx="1758240" cy="2934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7800"/>
                    <a:ext cx="313344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82560"/>
                    <a:ext cx="22827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5960"/>
                    <a:ext cx="94068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200" y="2181240"/>
                  <a:ext cx="54612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17480"/>
              <a:ext cx="6411960" cy="4708080"/>
              <a:chOff x="2343960" y="717480"/>
              <a:chExt cx="6411960" cy="4708080"/>
            </a:xfrm>
          </p:grpSpPr>
          <p:sp>
            <p:nvSpPr>
              <p:cNvPr id="295" name="Freeform 121"/>
              <p:cNvSpPr/>
              <p:nvPr/>
            </p:nvSpPr>
            <p:spPr>
              <a:xfrm flipH="1">
                <a:off x="4470840" y="3239280"/>
                <a:ext cx="59832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584440"/>
                <a:ext cx="2617200" cy="284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2688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43480"/>
                <a:ext cx="293076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5532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4164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51400"/>
                <a:ext cx="59832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6840" y="2952000"/>
                <a:ext cx="543600" cy="1033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3886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0292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1256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1464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17480"/>
                <a:ext cx="819000" cy="17683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58560"/>
                <a:ext cx="54396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CFC2-1328-41A0-B317-4F961C7E1380}" type="slidenum">
              <a:rPr b="0" lang="ru-RU"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Black"/>
            </a:endParaRPr>
          </a:p>
        </p:txBody>
      </p:sp>
      <p:sp>
        <p:nvSpPr>
          <p:cNvPr id="358" name="PlaceHolder 2"/>
          <p:cNvSpPr>
            <a:spLocks noGrp="1"/>
          </p:cNvSpPr>
          <p:nvPr>
            <p:ph type="subTitle"/>
          </p:nvPr>
        </p:nvSpPr>
        <p:spPr>
          <a:xfrm>
            <a:off x="0" y="2643120"/>
            <a:ext cx="6400800" cy="340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Julia Shustova</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Kazantip is not a place for an ideal family vacation, it’s a crazy event!</a:t>
            </a:r>
            <a:endParaRPr b="0" lang="en-US" sz="3200" spc="-1" strike="noStrike">
              <a:solidFill>
                <a:srgbClr val="ffcc00"/>
              </a:solidFill>
              <a:latin typeface="Arial Black"/>
            </a:endParaRPr>
          </a:p>
        </p:txBody>
      </p:sp>
      <p:sp>
        <p:nvSpPr>
          <p:cNvPr id="359" name="WordArt 4"/>
          <p:cNvSpPr txBox="1"/>
          <p:nvPr/>
        </p:nvSpPr>
        <p:spPr>
          <a:xfrm>
            <a:off x="928800" y="785880"/>
            <a:ext cx="7358040" cy="1334880"/>
          </a:xfrm>
          <a:prstGeom prst="rect">
            <a:avLst/>
          </a:prstGeom>
        </p:spPr>
        <p:txBody>
          <a:bodyPr wrap="none" lIns="90000" rIns="90000" tIns="46800" bIns="46800" anchor="t" anchorCtr="1">
            <a:prstTxWarp prst="textDoubleWave1">
              <a:avLst>
                <a:gd name="adj1" fmla="val 6481"/>
                <a:gd name="adj2" fmla="val -2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cap="rnd" w="15840">
                  <a:solidFill>
                    <a:srgbClr val="ffff00"/>
                  </a:solidFill>
                  <a:custDash>
                    <a:ds d="100000" sp="1000"/>
                  </a:custDash>
                  <a:miter/>
                </a:ln>
                <a:solidFill>
                  <a:srgbClr val="00ff00"/>
                </a:solidFill>
                <a:effectLst>
                  <a:outerShdw dist="125751" dir="18900000" blurRad="0" rotWithShape="0">
                    <a:srgbClr val="000099"/>
                  </a:outerShdw>
                </a:effectLst>
                <a:latin typeface="Arial Narrow"/>
              </a:rPr>
              <a:t>Kazantip Festival in Ukraine</a:t>
            </a:r>
            <a:endParaRPr b="1" lang="en-US" sz="4000" spc="1" strike="noStrike">
              <a:ln cap="rnd" w="15840">
                <a:solidFill>
                  <a:srgbClr val="ffff00"/>
                </a:solidFill>
                <a:custDash>
                  <a:ds d="100000" sp="1000"/>
                </a:custDash>
                <a:miter/>
              </a:ln>
              <a:solidFill>
                <a:srgbClr val="00ff00"/>
              </a:solidFill>
              <a:effectLst>
                <a:outerShdw dist="125751" dir="18900000" blurRad="0" rotWithShape="0">
                  <a:srgbClr val="000099"/>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1" name="PlaceHolder 2"/>
          <p:cNvSpPr>
            <a:spLocks noGrp="1"/>
          </p:cNvSpPr>
          <p:nvPr>
            <p:ph/>
          </p:nvPr>
        </p:nvSpPr>
        <p:spPr>
          <a:xfrm>
            <a:off x="-900000" y="1773360"/>
            <a:ext cx="10044000" cy="5084640"/>
          </a:xfrm>
          <a:prstGeom prst="rect">
            <a:avLst/>
          </a:prstGeom>
          <a:noFill/>
          <a:ln w="0">
            <a:noFill/>
          </a:ln>
        </p:spPr>
        <p:txBody>
          <a:bodyPr anchor="t">
            <a:normAutofit/>
          </a:bodyPr>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Kazantip festival is held every year starting since 1992, in late July – August on the beaches of the Western Crimea (Southern Ukraine). 2011 is the 19th year of the Festival. The Kazantip festival attracts thousands of young people from all post-Soviet space but recently the festival has also become popular among Europeans. Today you can meet here the Swedes, Dutch, Germans who find Kazantip pretty much similar to the famous parties in Ibiz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festival was founded as a small party for wind-surfers in Crimea. Kazantip received its name thanks to the name of the Cape, located nearby to the festival venue. As time passed, the fans of wind-surfing transformed into funs of parties and music. At last, only music left.</a:t>
            </a:r>
            <a:endParaRPr b="0" lang="en-US" sz="2000" spc="-1" strike="noStrike">
              <a:solidFill>
                <a:srgbClr val="ffcc00"/>
              </a:solidFill>
              <a:latin typeface="Arial Black"/>
            </a:endParaRPr>
          </a:p>
        </p:txBody>
      </p:sp>
      <p:pic>
        <p:nvPicPr>
          <p:cNvPr id="364" name="Picture 47" descr="x_a20ac943"/>
          <p:cNvPicPr/>
          <p:nvPr/>
        </p:nvPicPr>
        <p:blipFill>
          <a:blip r:embed="rId1"/>
          <a:stretch/>
        </p:blipFill>
        <p:spPr>
          <a:xfrm>
            <a:off x="4643280" y="2205000"/>
            <a:ext cx="3810240" cy="331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Originally, the dance floor of the festival was located near the village of Shelkino, in an unfinished building of nuclear reactor. The peak of popularity of Kazantip fell on 1997 which was the heyday of the rave culture. In 2000 the festival was forced to change the location and moved to the Western Coast of Crimea and got settled on the beach of a tiny resort settlement, Popovka, in other words – in the middle of nowhere. Today the names of Kazantip and Popovka are known to music fans and party-goers all over the word. </a:t>
            </a: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pic>
        <p:nvPicPr>
          <p:cNvPr id="367" name="Picture 6" descr="47551387_307"/>
          <p:cNvPicPr/>
          <p:nvPr/>
        </p:nvPicPr>
        <p:blipFill>
          <a:blip r:embed="rId1"/>
          <a:stretch/>
        </p:blipFill>
        <p:spPr>
          <a:xfrm>
            <a:off x="4648320" y="2133720"/>
            <a:ext cx="3809880" cy="35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However Kazantip is not only music and non-stop parting on the beach. Anyone familiar with the rave culture knows that it consists not only of music. One of the websites dedicated to Kazantip, describes it in the following way: Kazantip is not a place for an ideal family vacation, it’s a crazy event, the sea of emotions and experiences, non-stop beach-party, the pressure of hundreds of kilowatts of sound and lighting equipment, it fills you with energy and love on the beach, it is wine from plastic bottles, it’s sleeping under the stars, and etc., etc.</a:t>
            </a:r>
            <a:endParaRPr b="0" lang="en-US" sz="1400" spc="-1" strike="noStrike">
              <a:solidFill>
                <a:srgbClr val="ffcc00"/>
              </a:solidFill>
              <a:latin typeface="Arial Black"/>
            </a:endParaRPr>
          </a:p>
        </p:txBody>
      </p:sp>
      <p:pic>
        <p:nvPicPr>
          <p:cNvPr id="370" name="Picture 7" descr="kazantip-2011-otkrytie"/>
          <p:cNvPicPr/>
          <p:nvPr/>
        </p:nvPicPr>
        <p:blipFill>
          <a:blip r:embed="rId1"/>
          <a:stretch/>
        </p:blipFill>
        <p:spPr>
          <a:xfrm>
            <a:off x="4648320" y="2060640"/>
            <a:ext cx="380988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72" name="PlaceHolder 2"/>
          <p:cNvSpPr>
            <a:spLocks noGrp="1"/>
          </p:cNvSpPr>
          <p:nvPr>
            <p:ph/>
          </p:nvPr>
        </p:nvSpPr>
        <p:spPr>
          <a:xfrm>
            <a:off x="468000" y="1981080"/>
            <a:ext cx="4390920" cy="4400640"/>
          </a:xfrm>
          <a:prstGeom prst="rect">
            <a:avLst/>
          </a:prstGeom>
          <a:noFill/>
          <a:ln w="0">
            <a:noFill/>
          </a:ln>
        </p:spPr>
        <p:txBody>
          <a:bodyPr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Kazantip Festival 2012 will be held on the Crimea coast from 4 August  to 18 August, 2012. The opening of Kazantip is probably one of the brightest highlights in the lives of thousands of young people from all over the world. This is the time when you can see and listen to the world’s most known DJs, when you can dance non-stop, 24 hours a day and enjoy your live in full. It is also considered to be a milestone because it begins a new year and everyone looks forward to learning what happens this time, what adventures the organizers have prepared and it is no doubt that Kazantip 2012 will amazing as usual!</a:t>
            </a:r>
            <a:endParaRPr b="0" lang="en-US" sz="1600" spc="-1" strike="noStrike">
              <a:solidFill>
                <a:srgbClr val="ffcc00"/>
              </a:solidFill>
              <a:latin typeface="Arial Black"/>
            </a:endParaRPr>
          </a:p>
        </p:txBody>
      </p:sp>
      <p:pic>
        <p:nvPicPr>
          <p:cNvPr id="373" name="Picture 7" descr="4f4055165e37"/>
          <p:cNvPicPr/>
          <p:nvPr/>
        </p:nvPicPr>
        <p:blipFill>
          <a:blip r:embed="rId1"/>
          <a:stretch/>
        </p:blipFill>
        <p:spPr>
          <a:xfrm>
            <a:off x="5076720" y="2421000"/>
            <a:ext cx="3810240" cy="34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1T20:55:17Z</dcterms:created>
  <dc:creator>Larisa</dc:creator>
  <dc:description/>
  <dc:language>en-US</dc:language>
  <cp:lastModifiedBy>AdmiN</cp:lastModifiedBy>
  <dcterms:modified xsi:type="dcterms:W3CDTF">2012-02-13T16:46:41Z</dcterms:modified>
  <cp:revision>5</cp:revision>
  <dc:subject/>
  <dc:title> </dc:title>
</cp:coreProperties>
</file>